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B19-4B0D-4ADD-BDFB-023AED6B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0737-9540-4207-8A46-C29E1BD2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5F0778-57CA-4797-8FBA-F9CAD5C7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18AE26-17C8-4BD4-951D-A836E3AA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791D92-E677-4FAC-90F6-8C191073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82B2C9-0D5A-4DF9-9EAE-348930B3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828C9E-0859-41D6-841C-8125ED8E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0FED01-8E46-42E9-A1AF-8EA02A77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8CBA63-9FAE-452B-AA4C-2B3BFEDD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205A0D-FDBE-4ACC-A489-953EB2EA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6960CF-C008-49CA-9084-C12274A8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F9AD5-717B-49D7-A36F-135A1AB8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8CB-FFF5-4523-9203-AE0B2802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79339-4FCD-4DAC-943A-0E557AA6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12AB7-236C-444C-A047-BA6C5EB9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F6EFA-2463-4E4B-A82E-DC820AB4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31163-E5FF-4A3B-A05B-767923E3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A738B-0E0E-4888-969A-7A9006B8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70B40-3F20-476E-BC82-1770E19D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9D8C3-353C-4E84-B45D-8FAD4FD2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F10FC-28E6-4335-ABF5-9462528F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4C6AC-250A-4634-B955-208574E6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C8A09-8918-41E4-8239-A899C438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FC0-5CEE-4537-A264-CB686EF3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52565-F906-4DDD-ADD6-71F6EFDB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F8DFF-2E8F-4F34-9407-46DA9FC0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083E8-7DF3-4AA7-9AF5-7FB4508B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168CB-FD45-451C-AB23-53ADD40A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7EF8F-A211-42E2-B495-73E57688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F1FFA-467F-4DAB-8F7F-1B3DF986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1E727-8BEB-4F31-8627-C5416B5B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63182-7EEF-44F9-B66E-DCF896B1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1914-230A-43A5-97FC-599B94A4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BD1EE-E4DE-4260-8CDE-6D814378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E830D-7ECE-40B7-8BE7-F89ABD72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30EC8-07BF-40B9-A30A-376203F9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6E21B-2CD6-4EAD-8038-1B66EC70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83E8E-73B1-4E37-A814-33ED8A00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80777-F5E5-40BF-B913-3353DFAA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ADAD2-E77D-4451-B290-B4B90EF0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5BC1D-3A63-4CAA-86EC-3FE3F873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1817F-5800-49B6-95D1-4F977975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73269-DC87-4C28-A5C2-BC18FAAB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5533-5F2E-4F22-B0EA-844BF991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D5D29-B43C-4217-AEE5-8DA6A1C8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3B423-E9C7-4251-B0E4-7AB5A4D2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D63EE-DC37-45F2-B6A8-4B295C08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CCC8C-846E-4B48-9CC6-15F98F9F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92085-8529-429B-908F-9282BB16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8032D-5FE9-4443-BA6C-8CD819E8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B016F-E6F2-4AE9-889E-BC09D6B1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EEA5A-0769-4900-B311-AC592B9F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772A7-FFE7-4CC8-8F2D-DC0F573C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52771-A362-41B5-9734-343CB3EA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980B-585B-4A66-96EF-96CD7CFC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38F8D-A29B-4114-A903-34396A38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064C4-B8D7-4C6A-B16B-4F0F1571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F697E-0A48-466C-B689-0473DA70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4EBE1-09B7-4741-ACB0-0EF31277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2030C-FED1-46AD-9131-19997513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46835-9230-44B3-BA33-C148E915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E738E-19DF-45BD-A7AB-70AB79C4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34908-CE8F-4CE7-8BAA-3814E089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A5DF8-8E29-4D57-B578-86CAED76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AC599-08A7-4E0B-A6FA-2F3BDB39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8508-DDAD-497E-96BD-3EFC360E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CB16C-6750-433F-A069-6C0B2731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6D13D-4FC1-4708-B93E-B1D89BB4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5A43A-AA32-4CB3-A1BD-4F7BC15D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D8623-77A0-4EAF-8102-A676F89D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E8301-D044-4915-875A-01C4DDA9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89302-B934-4DFC-AC60-285523A4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D11EF-05FA-4CD2-8C97-E5AC6019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2A75F-67C2-4649-9618-9C0B9971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E6A56-D55F-49FF-9FE2-3DD11643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81F00-A11E-41F7-B819-1900235F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6390-7075-4215-B244-E7B402D6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FC6AF-F9E8-4E45-A76F-97331FB8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F6D99-360C-4529-8C83-B81B2969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08D31-71D6-443E-99D5-A078AA50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9625B-A707-420B-9AB5-C3A30ED8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35730-F48E-492F-8C2F-AB8158AF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7BA8B-C5F5-47D8-A8A1-625E9650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69CB4-E510-4383-A0B6-EA03D4FB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4F7D0-54E4-4070-94F4-5DB27704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D1D39-E189-4FF9-BD44-F4B30F5F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7D0DB-8C0A-46E3-8E76-1225DB87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72AF-4BA1-4008-9A4B-E4B9E104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737DC-8588-4934-B34D-88796FFE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CB099-CC1A-4986-BBD2-684C9974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1B8F0-65F2-49B5-B434-46232CFB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32B57-E4D4-4270-A1BA-8B09B89D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7249D-360B-4B82-80BB-D561615B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DCD27-5D24-45B5-B1CC-187F3646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6A233-4CA1-4D89-94F1-1702ECE1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1721B-24F2-46AA-BEC6-41F80C3E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634DF-28C3-42B9-8BDC-60F0732B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5F136-FD4C-4FEA-AC37-709085B9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6FD8-B961-46EB-88E8-91E9E1AF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45D40-31CE-4141-9F19-C8566541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0E337-6483-4759-A032-3354E712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C09AB-ACED-4E36-99AC-B620A9CB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8B150-555F-445A-9B96-B444C73F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11B94-A990-4C31-883D-196189A6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7C32C-1DCE-4DEB-A73C-CCEE54F8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2A0A9-EAFD-4D15-AC7C-F5BA6821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B28AF-9562-45DD-BB17-F4470BA4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4CB42-CB3E-460E-8C86-6B0C1E67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60DA2-BA3B-4038-9132-7AC4AFCF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DBA-2912-4269-B957-C94F6424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BF181-4873-4871-B7B0-15779D4F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828C1-8F3C-4F05-A147-DEB99026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B25B5-C153-4BAC-BAB1-487D342C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9DB50-D120-4B48-A7FC-8A175C9D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7A020-CC1B-4CF2-B276-2ADCA4D5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C47A9-9879-4235-916E-04A0F2AB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FAC5F-FAA1-4B7D-B280-1993E1F1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238B80-5C2F-4B4F-B765-1FC20AA6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C31B63-4E31-49A6-80F3-7DACA585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0584E4-66E6-45A5-96A4-6F429565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A587-4AFD-4E6C-B366-85E1FAB62D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5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4A17-81A8-4523-B711-93CF5C3CBE2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BAE4-B4F9-43FB-BE3F-6FD321B244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FAEB-8E30-4C16-995A-C71D7590E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E534-2CC1-4223-8802-E267FF3FA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564D-A14C-44DC-AB9B-0813F8046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BFD0-C803-497E-B304-891C53BE4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3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4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4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4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3789-A560-4D1E-8795-F9613C63F4D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1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1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1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2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3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4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4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9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9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0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0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1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1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2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2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2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3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4634-14BA-4CF9-8BCF-6B63F534444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8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2645-B848-423B-880E-1F62D37B701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Las Comidas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: Miguel McG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Desayu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el Desayuno me gusta com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1066680" y="4419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toci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2"/>
          <a:stretch/>
        </p:blipFill>
        <p:spPr>
          <a:xfrm>
            <a:off x="2895480" y="3124080"/>
            <a:ext cx="1833840" cy="144468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3048120" y="4572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panqueq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3"/>
          <a:stretch/>
        </p:blipFill>
        <p:spPr>
          <a:xfrm>
            <a:off x="4876920" y="3200400"/>
            <a:ext cx="1714320" cy="137160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5029200" y="4572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 huevos revuel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4"/>
          <a:stretch/>
        </p:blipFill>
        <p:spPr>
          <a:xfrm>
            <a:off x="6705720" y="3200400"/>
            <a:ext cx="1866960" cy="144612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693432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brind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4" name="" descr=""/>
          <p:cNvPicPr/>
          <p:nvPr/>
        </p:nvPicPr>
        <p:blipFill>
          <a:blip r:embed="rId5"/>
          <a:stretch/>
        </p:blipFill>
        <p:spPr>
          <a:xfrm>
            <a:off x="914400" y="47242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685800" y="6216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leche con 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l Almuerz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 el almuerzo me gusta com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1981440" cy="13161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380880" y="3733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queso a la planc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>
            <a:off x="2971800" y="2286000"/>
            <a:ext cx="1771560" cy="132876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2971800" y="37339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hamburgue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3"/>
          <a:stretch/>
        </p:blipFill>
        <p:spPr>
          <a:xfrm>
            <a:off x="5486400" y="2286000"/>
            <a:ext cx="1295280" cy="137160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5257800" y="3886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papas fri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4"/>
          <a:stretch/>
        </p:blipFill>
        <p:spPr>
          <a:xfrm>
            <a:off x="7467480" y="2438280"/>
            <a:ext cx="1409760" cy="129564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7391520" y="3886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piz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5"/>
          <a:stretch/>
        </p:blipFill>
        <p:spPr>
          <a:xfrm>
            <a:off x="457200" y="43434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152280" y="6172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coca c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Cen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ara la cena me gusta comer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1523880" cy="148896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762120" y="40384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perro ca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1752840" cy="137160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2819520" y="4114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fil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3"/>
          <a:stretch/>
        </p:blipFill>
        <p:spPr>
          <a:xfrm>
            <a:off x="4495680" y="2590920"/>
            <a:ext cx="1752840" cy="139068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4648320" y="4038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pasta y albóndig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4"/>
          <a:stretch/>
        </p:blipFill>
        <p:spPr>
          <a:xfrm>
            <a:off x="6553080" y="2590920"/>
            <a:ext cx="1881360" cy="138096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6781680" y="4038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s alitas de po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5"/>
          <a:stretch/>
        </p:blipFill>
        <p:spPr>
          <a:xfrm>
            <a:off x="533520" y="4648320"/>
            <a:ext cx="1562040" cy="156204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85800" y="6324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toro ro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Tahoma"/>
              </a:rPr>
              <a:t>El post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el postre me gusta com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2133360" cy="160020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066680" y="41911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s galletas con chispas de 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3276720" y="2511360"/>
            <a:ext cx="2209680" cy="160992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3276720" y="4114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tarta de manz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3"/>
          <a:stretch/>
        </p:blipFill>
        <p:spPr>
          <a:xfrm>
            <a:off x="5943600" y="2590920"/>
            <a:ext cx="1886040" cy="158580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6172200" y="4114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pastel de choco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4"/>
          <a:stretch/>
        </p:blipFill>
        <p:spPr>
          <a:xfrm>
            <a:off x="3733920" y="4419720"/>
            <a:ext cx="1415880" cy="175248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3581280" y="6248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leche con chocolate bat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05:16Z</dcterms:created>
  <dc:creator>mcgoffmic</dc:creator>
  <dc:description/>
  <dc:language>en-US</dc:language>
  <cp:lastModifiedBy>mcgoffmic</cp:lastModifiedBy>
  <dcterms:modified xsi:type="dcterms:W3CDTF">2011-04-14T18:12:07Z</dcterms:modified>
  <cp:revision>8</cp:revision>
  <dc:subject/>
  <dc:title>Las Comidas </dc:title>
</cp:coreProperties>
</file>